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EE8-5587-4B00-8787-86132FA2DA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llo meine Damen und Her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h bin Sascha Hemminger, studiere Informatik Fh Giessen, dürfte Ihnen bekannt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ue mich, daß ich heute abend hier über das Application Facade Beispiel M.Fowlers referieren dar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, daß man „Student“ durch z.B. „Tutor“ ersetzen könnte (Vererb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rieve kann Collection liefern, update hat dann add und del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klasse: leigt schon 1,5 Jahre zurück, Zeitdruck, sollte so niemals aussehen, siehe Folie vor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MI: auch Bildung komplexerer Attributtypen durch Verer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: retrieve update validate legalvalues (z.B.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Measurement und Observation sorgt knowledge level dafür, daß man das System zur Laufzeit rekonfigurieren kann! R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t zu eigenwilliger Umsetzung mit Attributen als direktem Typ, das führt Observationkonzept ad absurdu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llo meine Damen und Her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h bin Sascha Hemminger, studiere Informatik Fh Giessen, dürfte Ihnen bekannt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ue mich, daß ich heute abend hier über das Application Facade Beispiel M.Fowlers referieren dar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t zu eigenwilliger Umsetzung mit Attributen als direktem Typ, das führt Observationkonzept ad absurdu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alysmuster helfen Fachwissen zu transportie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ch fragen? Dann hoffe ich sie sind jetzt so schlau wie der und bedanke mic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AAD-B9B5-4626-BBCF-39A39792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828-6235-4EB5-A0AC-E852FFA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42E-3101-47E8-BF59-E6D2A74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D1B-D5C2-422A-A320-6BC3F02A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B8E-61C2-4814-B71C-8E16F96A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1B7-E658-45C1-BD9B-418349E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297-FBE4-4413-A776-4204BCB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377-F133-48EE-BD9F-17DB00E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B96-91B0-4376-8135-27E4EAF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B65-C3CE-4422-94ED-023C5CE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0E3-3CD7-4CAF-9E59-561BDBC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8B7-2F94-4252-B644-13432E2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0E3-8B69-4238-AD54-E07778DA09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Fowler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Application F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çades und andere Analysem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6619680" cy="452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79800" y="58770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Hohe Koppelung, hohe Komplexität, keine Erweiterbarkei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573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27880" y="587700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rzeugt eine austauschbare Schnittstelle zum Geschäfts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as 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03640" y="2708280"/>
            <a:ext cx="2665440" cy="2067480"/>
            <a:chOff x="3203640" y="2708280"/>
            <a:chExt cx="2665440" cy="2067480"/>
          </a:xfrm>
        </p:grpSpPr>
        <p:sp>
          <p:nvSpPr>
            <p:cNvPr id="185" name=""/>
            <p:cNvSpPr/>
            <p:nvPr/>
          </p:nvSpPr>
          <p:spPr>
            <a:xfrm>
              <a:off x="3203640" y="2708280"/>
              <a:ext cx="2665440" cy="20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3280" y="278604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Fac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3640" y="320364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19640" y="328464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  subject: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3640" y="361620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1160" y="3616200"/>
              <a:ext cx="228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   retrieve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   update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~   attribute1LegalValues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~   validateAttribute1(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  setDefault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10600" y="19890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= getAttribute1(), liefert den 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2349360"/>
            <a:ext cx="1584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3680" y="530064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= setAttribute1(), setzt neuen 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258920" y="4005360"/>
            <a:ext cx="2089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80480" y="6093000"/>
            <a:ext cx="36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initialisiert Attribut mit Standard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56000" y="4724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65880" y="19890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ibt erlaubte Werte für Attri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63560" y="5300640"/>
            <a:ext cx="350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überprüft neue Werte auf Leg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219280" y="443664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364000" y="2205000"/>
            <a:ext cx="165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722680" y="0"/>
            <a:ext cx="64213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560" y="1484280"/>
            <a:ext cx="22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Cav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 bei dire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setzung enste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e „Gottklasse“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2205000"/>
            <a:ext cx="554544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4292640"/>
            <a:ext cx="115236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551664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achträglich implementi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8" idx="3"/>
            <a:endCxn id="207" idx="2"/>
          </p:cNvCxnSpPr>
          <p:nvPr/>
        </p:nvCxnSpPr>
        <p:spPr>
          <a:xfrm flipV="1">
            <a:off x="2448000" y="4868280"/>
            <a:ext cx="1332720" cy="110700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ff0000"/>
            </a:solidFill>
            <a:miter/>
          </a:ln>
        </p:spPr>
      </p:cxnSp>
    </p:spTree>
  </p:cSld>
  <p:transition>
    <p:wheel spokes="3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ustersammelsuriu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linisches Informations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8000" y="1289160"/>
            <a:ext cx="6985080" cy="5241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3178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 Faç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servatio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enomenon with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Singleto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16360" y="2997360"/>
            <a:ext cx="2552400" cy="1562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94440" y="1197000"/>
            <a:ext cx="59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zu einem Typ gibt es viele ähnlich geartet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rfassung vieler Einzelmessungen für ein 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558972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 neuer Typ, so daß einzelne Messungen durch Objekt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enau dieses Typs repräsent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556000" y="1268280"/>
            <a:ext cx="4038480" cy="4238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Observ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73840" y="119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er Wert eines Attributes ist qualit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5445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terscheide zwischen Messergebnissen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uftretenden Phänom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eides sind aber Beobach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908000" y="1268280"/>
            <a:ext cx="5616720" cy="4270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System in 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8713800" cy="5434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4600" y="1581120"/>
            <a:ext cx="81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rekte Umsetzung der Fassade führt zu einer bedenklichen „Gottklasse“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2560680" cy="4525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77000" y="364500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32 public Methoden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3860640"/>
            <a:ext cx="2087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771640" y="2013120"/>
            <a:ext cx="6372360" cy="4844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993680" y="155736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Observation“ wird nicht richtig umgesetz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4437000"/>
            <a:ext cx="1440000" cy="792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2852640"/>
            <a:ext cx="2050920" cy="180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2" idx="6"/>
            <a:endCxn id="253" idx="2"/>
          </p:cNvCxnSpPr>
          <p:nvPr/>
        </p:nvCxnSpPr>
        <p:spPr>
          <a:xfrm flipV="1">
            <a:off x="2924280" y="3752280"/>
            <a:ext cx="4161600" cy="1081800"/>
          </a:xfrm>
          <a:prstGeom prst="straightConnector1">
            <a:avLst/>
          </a:prstGeom>
          <a:ln w="15840">
            <a:solidFill>
              <a:srgbClr val="ff0000"/>
            </a:solidFill>
            <a:miter/>
          </a:ln>
        </p:spPr>
      </p:cxnSp>
    </p:spTree>
  </p:cSld>
  <p:transition>
    <p:wheel spokes="3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03560" y="2492280"/>
            <a:ext cx="509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llgemeines zu Analysemu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pplication F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ç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nstige Muster im 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ri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ive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1720" y="155736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as führt zu einem eigenartigem Attributkonz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050920" y="2349360"/>
            <a:ext cx="5505480" cy="587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79640" y="2205000"/>
            <a:ext cx="4392720" cy="465300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4653000"/>
              <a:gd name="textAreaBottom" fmla="*/ 4438800 h 4653000"/>
            </a:gdLst>
            <a:ahLst/>
            <a:rect l="textAreaLeft" t="textAreaTop" r="textAreaRight" b="textAreaBottom"/>
            <a:pathLst>
              <a:path w="21600" h="22880">
                <a:moveTo>
                  <a:pt x="3600" y="0"/>
                </a:moveTo>
                <a:arcTo wR="3600" hR="3600" stAng="16200000" swAng="-5400000"/>
                <a:lnTo>
                  <a:pt x="0" y="19280"/>
                </a:lnTo>
                <a:arcTo wR="3600" hR="3600" stAng="10800000" swAng="-5400000"/>
                <a:lnTo>
                  <a:pt x="18000" y="22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33480" y="1557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er es zeig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22720" y="155736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aß bei sinnvollem Einsatz von Analysemust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48120" y="2133720"/>
            <a:ext cx="61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e Domäne des Kunden schneller zu durchdringen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e Stabilität und die Qualität überhaupt ste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e extrem hohe Flexibilität erreicht werden k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12320" y="345276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zwar we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4005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an das bereits praxiserprobte Wissen eines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mit höherer Kompetenz) für eigene Zwecke nutz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2982960" cy="417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81640" y="262404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5800" y="2492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ie funktionieren Analysemus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2196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found this book very hard to work with […] I’ve had colleagues also attempt to get to grips with this book to see if was just me, but all of us have had the same problem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5084640"/>
            <a:ext cx="521964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at’s one of the books worth reading.Describing higher level patterns than GOF “Design Patterns” it is a source of inspiration for analyst and design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2925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1908000" y="3068640"/>
            <a:ext cx="1366920" cy="1655640"/>
            <a:chOff x="1908000" y="3068640"/>
            <a:chExt cx="1366920" cy="1655640"/>
          </a:xfrm>
        </p:grpSpPr>
        <p:sp>
          <p:nvSpPr>
            <p:cNvPr id="65" name=""/>
            <p:cNvSpPr/>
            <p:nvPr/>
          </p:nvSpPr>
          <p:spPr>
            <a:xfrm>
              <a:off x="1908000" y="3068640"/>
              <a:ext cx="719280" cy="10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482560" y="3573000"/>
              <a:ext cx="14472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82560" y="3573360"/>
              <a:ext cx="79236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056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echanisches “ Verständnis von Patterns als konkrete Problemlösungsschabl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ins-zu-eins-Umsetzung von Analysemus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rsuche Analysemuster mit Designpatterns gleichzuse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ftwareentwickler kleben an der konkreten Vorstellung eines in Code gegossenen System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Probleme mit Analysemu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520" y="5132520"/>
            <a:ext cx="85748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en Sie sich von der Technik und verlassen Sie sich auf Ihren Verst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gito ergo sum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im Entwicklungs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060640"/>
            <a:ext cx="49672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9440" y="2060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14972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1015560" y="5108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konkre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987480" y="2854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strak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87120" y="15573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03160" y="15573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2413080" y="4292640"/>
            <a:ext cx="2232000" cy="1785960"/>
          </a:xfrm>
          <a:prstGeom prst="pi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205000"/>
            <a:ext cx="1800360" cy="180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2276640"/>
            <a:ext cx="2016360" cy="165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4365720"/>
            <a:ext cx="201636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71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7240" y="4005360"/>
            <a:ext cx="99144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6880" y="2205000"/>
            <a:ext cx="17154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4320" y="3933720"/>
            <a:ext cx="1878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628640"/>
            <a:ext cx="4464360" cy="3875400"/>
          </a:xfrm>
          <a:custGeom>
            <a:avLst/>
            <a:gdLst/>
            <a:ahLst/>
            <a:rect l="l" t="t" r="r" b="b"/>
            <a:pathLst>
              <a:path w="3552" h="3031">
                <a:moveTo>
                  <a:pt x="2131" y="1912"/>
                </a:moveTo>
                <a:cubicBezTo>
                  <a:pt x="2131" y="2040"/>
                  <a:pt x="2418" y="2419"/>
                  <a:pt x="2131" y="2547"/>
                </a:cubicBezTo>
                <a:cubicBezTo>
                  <a:pt x="1844" y="2675"/>
                  <a:pt x="688" y="3031"/>
                  <a:pt x="408" y="2683"/>
                </a:cubicBezTo>
                <a:cubicBezTo>
                  <a:pt x="128" y="2335"/>
                  <a:pt x="0" y="868"/>
                  <a:pt x="453" y="460"/>
                </a:cubicBezTo>
                <a:cubicBezTo>
                  <a:pt x="906" y="52"/>
                  <a:pt x="2706" y="0"/>
                  <a:pt x="3129" y="234"/>
                </a:cubicBezTo>
                <a:cubicBezTo>
                  <a:pt x="3552" y="468"/>
                  <a:pt x="3159" y="1610"/>
                  <a:pt x="2993" y="1867"/>
                </a:cubicBezTo>
                <a:cubicBezTo>
                  <a:pt x="2827" y="2124"/>
                  <a:pt x="2275" y="1769"/>
                  <a:pt x="2131" y="1776"/>
                </a:cubicBezTo>
                <a:cubicBezTo>
                  <a:pt x="1987" y="1783"/>
                  <a:pt x="2131" y="1784"/>
                  <a:pt x="2131" y="1912"/>
                </a:cubicBezTo>
                <a:close/>
              </a:path>
            </a:pathLst>
          </a:custGeom>
          <a:solidFill>
            <a:srgbClr val="80808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im Entwicklungs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2060640"/>
            <a:ext cx="49672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9440" y="2060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14972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015560" y="5108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konkre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987480" y="2854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strak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87120" y="15573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03160" y="15573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627280" y="5013360"/>
            <a:ext cx="1722600" cy="371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29440" y="278136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 neng shuo 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idiar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60720" y="278136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önnen Sie bitte etw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r spreche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OvalCallout"/>
          <p:cNvSpPr/>
          <p:nvPr/>
        </p:nvSpPr>
        <p:spPr>
          <a:xfrm>
            <a:off x="5076720" y="436572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erfa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8440" y="22766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verst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5640" y="206064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verst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umges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6080" y="47242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ges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628640"/>
            <a:ext cx="4464360" cy="3875400"/>
          </a:xfrm>
          <a:custGeom>
            <a:avLst/>
            <a:gdLst/>
            <a:ahLst/>
            <a:rect l="l" t="t" r="r" b="b"/>
            <a:pathLst>
              <a:path w="3552" h="3031">
                <a:moveTo>
                  <a:pt x="2131" y="1912"/>
                </a:moveTo>
                <a:cubicBezTo>
                  <a:pt x="2131" y="2040"/>
                  <a:pt x="2418" y="2419"/>
                  <a:pt x="2131" y="2547"/>
                </a:cubicBezTo>
                <a:cubicBezTo>
                  <a:pt x="1844" y="2675"/>
                  <a:pt x="688" y="3031"/>
                  <a:pt x="408" y="2683"/>
                </a:cubicBezTo>
                <a:cubicBezTo>
                  <a:pt x="128" y="2335"/>
                  <a:pt x="0" y="868"/>
                  <a:pt x="453" y="460"/>
                </a:cubicBezTo>
                <a:cubicBezTo>
                  <a:pt x="906" y="52"/>
                  <a:pt x="2706" y="0"/>
                  <a:pt x="3129" y="234"/>
                </a:cubicBezTo>
                <a:cubicBezTo>
                  <a:pt x="3552" y="468"/>
                  <a:pt x="3159" y="1610"/>
                  <a:pt x="2993" y="1867"/>
                </a:cubicBezTo>
                <a:cubicBezTo>
                  <a:pt x="2827" y="2124"/>
                  <a:pt x="2275" y="1769"/>
                  <a:pt x="2131" y="1776"/>
                </a:cubicBezTo>
                <a:cubicBezTo>
                  <a:pt x="1987" y="1783"/>
                  <a:pt x="2131" y="1784"/>
                  <a:pt x="2131" y="1912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3240" y="2924280"/>
            <a:ext cx="19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nalysem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Übersetzer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133720"/>
            <a:ext cx="2016360" cy="187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m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örterbuch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1125360"/>
            <a:ext cx="71640" cy="554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421000"/>
            <a:ext cx="2808000" cy="22334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oder oo Prinzip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omic Sans MS"/>
              </a:rPr>
              <a:t>This technique [Application F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çades] can be considered an addition to object oriented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pselung von Daten gemäß des Geheimnisprinz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ugriff durch Aksessoren, Manipulatoren, Validierer u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ktes Einfügen von Operationen bei Schichten / Modulen nicht mögli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nalysemuster “Application Façad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4038480" cy="2849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4038480" cy="2800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4360" y="2565360"/>
            <a:ext cx="4068720" cy="2376360"/>
            <a:chOff x="684360" y="2565360"/>
            <a:chExt cx="4068720" cy="2376360"/>
          </a:xfrm>
        </p:grpSpPr>
        <p:sp>
          <p:nvSpPr>
            <p:cNvPr id="139" name=""/>
            <p:cNvSpPr/>
            <p:nvPr/>
          </p:nvSpPr>
          <p:spPr>
            <a:xfrm>
              <a:off x="2232000" y="256536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08360" y="342900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27280" y="342900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00720" y="256536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1080" y="342900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360" y="4510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27280" y="414972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1080" y="407664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4360" y="414972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160360" y="2960280"/>
              <a:ext cx="432720" cy="50544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45" idx="0"/>
              <a:endCxn id="141" idx="2"/>
            </p:cNvCxnSpPr>
            <p:nvPr/>
          </p:nvCxnSpPr>
          <p:spPr>
            <a:xfrm flipV="1">
              <a:off x="2124000" y="386028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7" idx="3"/>
              <a:endCxn id="145" idx="1"/>
            </p:cNvCxnSpPr>
            <p:nvPr/>
          </p:nvCxnSpPr>
          <p:spPr>
            <a:xfrm>
              <a:off x="1476000" y="43650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40" idx="0"/>
              <a:endCxn id="139" idx="2"/>
            </p:cNvCxnSpPr>
            <p:nvPr/>
          </p:nvCxnSpPr>
          <p:spPr>
            <a:xfrm flipV="1" rot="16200000">
              <a:off x="2700720" y="2924280"/>
              <a:ext cx="432720" cy="5770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9" idx="3"/>
              <a:endCxn id="142" idx="1"/>
            </p:cNvCxnSpPr>
            <p:nvPr/>
          </p:nvCxnSpPr>
          <p:spPr>
            <a:xfrm>
              <a:off x="3024000" y="2780640"/>
              <a:ext cx="57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3" idx="0"/>
              <a:endCxn id="142" idx="2"/>
            </p:cNvCxnSpPr>
            <p:nvPr/>
          </p:nvCxnSpPr>
          <p:spPr>
            <a:xfrm flipV="1" rot="16200000">
              <a:off x="3961080" y="3032280"/>
              <a:ext cx="432720" cy="3610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4" idx="1"/>
              <a:endCxn id="145" idx="3"/>
            </p:cNvCxnSpPr>
            <p:nvPr/>
          </p:nvCxnSpPr>
          <p:spPr>
            <a:xfrm rot="10800000">
              <a:off x="2518920" y="4364640"/>
              <a:ext cx="505440" cy="36108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6" idx="0"/>
              <a:endCxn id="143" idx="2"/>
            </p:cNvCxnSpPr>
            <p:nvPr/>
          </p:nvCxnSpPr>
          <p:spPr>
            <a:xfrm flipV="1">
              <a:off x="4357440" y="3860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4" idx="3"/>
              <a:endCxn id="146" idx="2"/>
            </p:cNvCxnSpPr>
            <p:nvPr/>
          </p:nvCxnSpPr>
          <p:spPr>
            <a:xfrm flipV="1">
              <a:off x="3816360" y="4507920"/>
              <a:ext cx="542160" cy="21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-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4360" y="5465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s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2520" y="5373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13000"/>
            <a:ext cx="6408720" cy="4824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tfallpat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37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13000"/>
            <a:ext cx="6408720" cy="4824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utspe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tebulb"/>
          <p:cNvSpPr/>
          <p:nvPr/>
        </p:nvSpPr>
        <p:spPr>
          <a:xfrm>
            <a:off x="8101080" y="1557360"/>
            <a:ext cx="503280" cy="7920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4:05:39Z</dcterms:created>
  <dc:creator>Sascha Hemminger</dc:creator>
  <dc:description/>
  <dc:language>en-US</dc:language>
  <cp:lastModifiedBy>Sascha Hemminger</cp:lastModifiedBy>
  <dcterms:modified xsi:type="dcterms:W3CDTF">2005-02-01T15:31:22Z</dcterms:modified>
  <cp:revision>86</cp:revision>
  <dc:subject/>
  <dc:title>Fowler revisited</dc:title>
</cp:coreProperties>
</file>